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2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FF74B-7D89-4E93-919E-E90B8AE46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E5281-EEB1-4227-AD28-1BBE9E999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978-DB09-4564-AD9F-D6E3ECC2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7D4-FC8B-4B1D-AF40-070A9C71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C3F-31E3-4604-BA44-3E735C69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9AD-3DA9-4A33-8696-7F657C7B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59A9-AE48-4730-A278-35EF350A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6D9D-7D21-401A-A662-FF147B5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B9DB-2526-40CD-BA8B-90FECC9E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3488-84B2-4B5E-970E-25DE0B5A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C159-218B-4ACC-80AB-CA7821A5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6F22-3334-4C68-A3D7-053DFF3F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18F4-8097-4C83-81E1-8F6A00BE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F9B-8F0E-4829-BF45-E97DE846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23DA-70A9-4AD0-8DFB-549FF737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356B-1721-4854-8FFE-287ADAE1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8813-310C-4852-9882-7875625C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3231-F818-4846-B473-9DFAEC3F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BA22-5510-47AE-BD35-E5A70769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97DE-38F5-4B22-822C-5DA1573A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BC91-A74D-4621-BA9F-9C9037D8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2224F-D43F-446A-AF47-9146885C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E0A7-3C75-4086-A93A-3B0024FE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5659-05EA-4163-B1C9-111BD5F9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D9F-0A45-400A-A401-31605D27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B62A-F7C9-48E5-9A52-0B8679E9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3B04-2D97-4D34-BA0A-F86445E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FCB7-BD25-4634-8C5A-93157B8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4D87-40B2-4A2C-BD45-44CC2493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DB5C-3EE7-4B5E-AD51-59FEAE76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8AC5-43EB-440A-B0FD-8B97864F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5C973-BB3D-4679-98EF-DE9192B6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972A2-A20C-4F04-B6D0-9EE8B1AC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FF508-D10C-427D-A2AF-39C2AB34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6788-7BD6-46AB-9BF4-265E3C0C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5FC-02AF-4BBE-84EA-B8C322DF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8CD7D-0E61-465E-B826-7B5DD712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D973-D88F-489C-B139-54BDFD6D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59A53-C12C-4BE7-A9C7-5F6E34EB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CDB4D-ED5B-4A36-9EF9-06BA6B61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B931B-69BB-40AE-9057-A48071D8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06D8B-8CF1-4401-9308-CBE7685F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EB164-02FF-4B19-AADD-449981AD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81CC2-58A7-4729-9DF3-B1BDA1AC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8EC24-421C-4B29-8032-D93D99B2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05B9A-3523-41DA-AC61-DF99BED3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7E5-3C4A-4BAE-AD98-7E7C2D64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DF314-86A3-4157-A0A9-B8F4AA81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84C7E-FB6B-4D62-A6E4-1EE57F00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CB97F-C278-477D-94DB-6DF3DCDC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E37EA-0806-4FBF-A00E-07EF5EE6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AF946-0A60-44F0-8C71-E8744057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81FFA-5E00-48AD-9A1C-E720B905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66A22-0EE6-4A9E-97F9-1775E6E8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61B9F-9824-4D81-ADEE-DF65711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16D5C-EF17-4AC9-815A-1621BD8A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0140-6F1A-4CB7-9EB3-5363D0CD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C65-7F57-4FCE-A4F5-86AD9D37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5AB21-1B6F-4E9F-8B33-F6F39F66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B0E43-0242-4159-A0EE-D1A378C6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E8DCF-8836-42E0-A42D-42C3B0AD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F10CD-C507-4DCC-BA83-F4934BF5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A4EFE-2919-4CD8-A9FF-20C190B9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A104-4819-4D9E-A9D6-B6EAA359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195BB-0C3C-4AEB-AD80-E32989E2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7EC2A-AD84-4D38-B2D7-9537B0DF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DEF37-5390-43E8-9441-1027F76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940A1-78E3-47EC-B659-A2F05F07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966-6DD3-44C4-A2FD-B76BDC1C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C06B4-258C-49BB-8DCA-80A1DA5B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E84DD-1A4E-4DEB-8C84-39ACEC49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08B83-9A0D-4505-8A4D-F9C7322E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1020C-CB5E-4B1F-BB80-FA315AF4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35E14-BF4C-433A-8D26-FD5CB646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5FF15-5E2D-44B9-9072-AEEC8EAB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6BA5-942B-4EA6-90D6-9AEE1E38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05EA6-C3BB-42AF-97B7-A9C3D055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48792-947A-485A-A1FF-7274EE46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2F81D-D5CA-4603-A32E-CDD81DF5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EFA-261B-4041-938D-41BAFB93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9BDE4-3DAC-485C-8B36-52B74993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B8257-FFED-4BE5-BE97-5E1E78D4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9D251-B318-469C-9E1C-B1B02B44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60A39-9504-45E0-93CC-6DE77203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6C828-F0B9-4198-A001-85E99856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E6A-87E1-4185-AF94-F73FDC5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DA93B-253C-47E0-8F4D-95F46EFD361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90B9E-CD1F-4644-80D5-392A5FAC6D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B98EA-9447-45FC-A266-6CEBF6A90F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9DF91-4F2A-4399-80CA-3A281028431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30785-5E74-4415-AE6B-37610321425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CB779-4CD3-4172-8D6C-8A1E78B7D52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AE585-7D66-44B3-BDA3-D2743117BB9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3440" cy="16765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72520" y="1507680"/>
            <a:ext cx="8077320" cy="14986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genda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upreme Court Case Review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ading Quiz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rnell Notes / PowerPoint: Territorial Expans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PUSH Practice Ques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it Slip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29" name="Content Placeholder 3" descr="Texas_20Logo.jpg"/>
          <p:cNvPicPr/>
          <p:nvPr/>
        </p:nvPicPr>
        <p:blipFill>
          <a:blip r:embed="rId2"/>
          <a:srcRect l="-16713" t="0" r="-16713" b="0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5000"/>
          </a:bodyPr>
          <a:p>
            <a:pPr marL="328320" indent="-2390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xico won independence from Spain in 182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390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xico hoped to attract settlers to Tex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390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ephen Austin brought 300 families into Texas which started a migration into Tex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390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y 1830, Americans [white farmers &amp; black slaves] outnumbered Mexicans in Texas 3/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390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**Mexico outlawed slavery in 1829 and required all immigrants convert to Roman Catholicism—led to tension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33" name="Content Placeholder 3" descr="austin.jpg"/>
          <p:cNvPicPr/>
          <p:nvPr/>
        </p:nvPicPr>
        <p:blipFill>
          <a:blip r:embed="rId2"/>
          <a:srcRect l="-83684" t="0" r="-83684" b="0"/>
          <a:stretch/>
        </p:blipFill>
        <p:spPr>
          <a:xfrm>
            <a:off x="655560" y="1954080"/>
            <a:ext cx="8229600" cy="4416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austin1.jpg"/>
          <p:cNvPicPr/>
          <p:nvPr/>
        </p:nvPicPr>
        <p:blipFill>
          <a:blip r:embed="rId3"/>
          <a:stretch/>
        </p:blipFill>
        <p:spPr>
          <a:xfrm>
            <a:off x="6286680" y="1954080"/>
            <a:ext cx="2857320" cy="2476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Stephen_F_Austin_and_Brother_s.jpg"/>
          <p:cNvPicPr/>
          <p:nvPr/>
        </p:nvPicPr>
        <p:blipFill>
          <a:blip r:embed="rId4"/>
          <a:stretch/>
        </p:blipFill>
        <p:spPr>
          <a:xfrm>
            <a:off x="0" y="26161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834, General Santa Anna made himself dictator of Mexico and abolished the federal system of gover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nta Anna enforced Mexican law in Texas, and settlers led by Sam Houston revolted and declared Texas to be an independent republic (March 1836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xican Army led by Santa Anna attacked the Alamo in San Antonio killing all American defend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39" name="Content Placeholder 3" descr="samhouston.jpg"/>
          <p:cNvPicPr/>
          <p:nvPr/>
        </p:nvPicPr>
        <p:blipFill>
          <a:blip r:embed="rId2"/>
          <a:srcRect l="-12979" t="0" r="-12979" b="0"/>
          <a:stretch/>
        </p:blipFill>
        <p:spPr>
          <a:xfrm>
            <a:off x="-582480" y="2232000"/>
            <a:ext cx="5662440" cy="4626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alamo.jpg"/>
          <p:cNvPicPr/>
          <p:nvPr/>
        </p:nvPicPr>
        <p:blipFill>
          <a:blip r:embed="rId3"/>
          <a:stretch/>
        </p:blipFill>
        <p:spPr>
          <a:xfrm>
            <a:off x="4156200" y="1407960"/>
            <a:ext cx="49719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42" name="Content Placeholder 3" descr="alatrav.jpg"/>
          <p:cNvPicPr/>
          <p:nvPr/>
        </p:nvPicPr>
        <p:blipFill>
          <a:blip r:embed="rId2"/>
          <a:srcRect l="-20414" t="0" r="-20414" b="0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6840" y="1774800"/>
            <a:ext cx="84661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my under Sam Houston caught the Mexicans by surprise and captured Santa An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xican leader [under threat of death] signed treaty recognizing Texas’ independence and granted all territory north of Rio Grande to Tex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46" name="Content Placeholder 3" descr="smallriogranderiver.jpg"/>
          <p:cNvPicPr/>
          <p:nvPr/>
        </p:nvPicPr>
        <p:blipFill>
          <a:blip r:embed="rId2"/>
          <a:srcRect l="0" t="12489" r="0" b="12489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2000"/>
          </a:bodyPr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xican legislature rejected treaty and insisted that Texas was still part of Mexic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m Houston mad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president of Texas; applied for annexation to 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ex = add on t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th Jackson &amp; Van Buren put off the request b/c of political opposition among northerners to the expansion of slavery and potential of  territories made into 5 new slave sta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-360" y="1434600"/>
            <a:ext cx="3429000" cy="5262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resident from 1841-1845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outhern Whig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orried about growing influence of the British in Texa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anted to annex Texas, but in 1844 US Senate rejected his treaty of annex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3" descr="10jt_header_sm.jpg"/>
          <p:cNvPicPr/>
          <p:nvPr/>
        </p:nvPicPr>
        <p:blipFill>
          <a:blip r:embed="rId2"/>
          <a:stretch/>
        </p:blipFill>
        <p:spPr>
          <a:xfrm>
            <a:off x="3429000" y="3632040"/>
            <a:ext cx="57150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407960" y="517680"/>
            <a:ext cx="8236080" cy="1261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) Judicial Review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) Separate but Equal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) Cannot execute under 18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4) Internment camps ARE legal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5) Abortion legalized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6) You have the right to remain silent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7) School Integration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8) State cannot tax a federal entit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9) Dartmouth College can stay priv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0) Interracial marriage legalized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53" name="Content Placeholder 3" descr="james-polk-white-house-china-1.gif"/>
          <p:cNvPicPr/>
          <p:nvPr/>
        </p:nvPicPr>
        <p:blipFill>
          <a:blip r:embed="rId2"/>
          <a:srcRect l="-64436" t="0" r="-64436" b="0"/>
          <a:stretch/>
        </p:blipFill>
        <p:spPr>
          <a:xfrm>
            <a:off x="-2247840" y="1627200"/>
            <a:ext cx="8048520" cy="46242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965400" y="1990800"/>
            <a:ext cx="4891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ke Andrew Jacks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mitted to Manifest Destiny and Expan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anted to annex Tex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lected as a dark horse candidat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56" name="Content Placeholder 3" descr="e1844_ecmap.gif"/>
          <p:cNvPicPr/>
          <p:nvPr/>
        </p:nvPicPr>
        <p:blipFill>
          <a:blip r:embed="rId2"/>
          <a:srcRect l="-6510" t="0" r="-6510" b="0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564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ctory signaled to Tyler to push annexation through Con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cceeded by getting both houses of Congress to pass a joint resolution for annex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ypassed Senate – had advantage of requiring only a simple majority of each hou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s left Polk the problem of Mexico’s re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1828800" y="16761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ight to bear arm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llegal search and seizur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ue Process &amp; Double Jeopard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eedom from cruel and unusual punishmen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bolished slaver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qual rights &amp; citizens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males could vot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hibitio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emales suffrag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hibition Repealed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80720" y="1774800"/>
            <a:ext cx="850572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William Lloyd Garrison and the American Antislavery supported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) gradual emancipation of slaves without compensation to owner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B) immediate emancipation of slaves without compensation or emigr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) gradual emancipation of slaves with emigration to Asi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) immediate emancipation of slaves with compensation to owner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) violent overthrow of slavery in the South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1774800"/>
            <a:ext cx="90216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98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2. Dorothea Dix was inspired to dedicate her life to a humanitarian crusade b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98280"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istreatment of women factory work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98280"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ditions in the poorly funded public schoo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98280"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scovery of the confinement of the mentally ill in local jai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98280"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lack of schools for the blind and dea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98280"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increased suicide rate in Pennsylvania and New York pris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9040" y="1544760"/>
            <a:ext cx="85374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107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3.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Uncle Tom’s Cabin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, written by Harriet Beecher Stowe in the antebellum era, had the effect of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764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omplicating the passage of the Missouri Compromis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764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romoting slavery in the anti-slave northern stat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764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flaming public opinion of slavery in both the North and South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764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Leading to the skirmish known as “Bleeding Kansa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764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romoting slave rebellions in the South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1407960"/>
            <a:ext cx="8994600" cy="5321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104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4. Manifest Destiny in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century America included all of the following characteristic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except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4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 racial justification for expans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4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 belief that Providence (God) wanted America to expand across North Americ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4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usage of the “penny press” to spread the ideas of Manifest Destin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4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 strong belief that further expansion would end the debate over slaver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4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beginnings of imperialistic ideas as some politicans advocated eventually spreading American influence all over the worl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4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-360" y="1774800"/>
            <a:ext cx="89233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Belief that God intended America to expand west to the Pacific Oce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rase coined by John L. O’Sulliv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way, away with all these cobweb tissues of the rights of discovery, exploration settlement, . . . [The American claim] is by the right of our manifest destiny to overspread and to possess the whole of the continent which Providence has given us for the development of the great experiment of liberty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) Nationalis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) Population increa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) Rapid economic develop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4) Technological adva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5) Reform ide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***Northerners protested: argued the South just wanted to further expand slave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2:48:49Z</dcterms:created>
  <dc:creator>Mark Scacewater</dc:creator>
  <dc:description/>
  <dc:language>en-US</dc:language>
  <cp:lastModifiedBy>Mark Scacewater</cp:lastModifiedBy>
  <dcterms:modified xsi:type="dcterms:W3CDTF">2012-01-15T21:29:54Z</dcterms:modified>
  <cp:revision>10</cp:revision>
  <dc:subject/>
  <dc:title>APUSH  November 11, 2011 Topic: Territorial Expansion </dc:title>
</cp:coreProperties>
</file>